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2DA8-38FF-4A88-94D2-EB8AD021B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80F3-8041-471B-A1C8-83FDF753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D087-1F96-4112-88B5-75B72F508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66F2-E8CD-4D4C-AD85-33AC26703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DCE6-88B1-48E5-8E6E-D5F3E6F4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C156-ECFB-4309-81C9-62F30B12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EF05-2419-40DF-811C-16420CA1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034A-6FB8-4D00-AE78-CFF21166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445A-C802-41DF-8D9F-DCE7088A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7099-4779-4F75-A581-F89C229B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2897-0452-4ADB-93B1-74E96F8C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0636-C062-42C4-AB5D-397C2931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85637-F52C-4620-8ABD-DBA193AB7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J .G.  FLEMING                                      J.  G.  FLEMING                                 J. G.  FLEMING                                    INCHINNAN                                        INCHINAN                                     INKERM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KERMAN                                               INKERMAN                             INKERMAN  100TH                             INKERMAN  125TH                      JOHNSTONE  MUNICIPAL                JOHNST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JOHNSTONE                                          JOHNSTONE                                        KILBARCHAN                                   KILBARCHAN                                     LILLYBANK                       LILLYBANK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45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WOOD                                            LINWOOD  100TH                   LOCHFIELD  JUNIORS  PUBLIC              LOCHFIELD  JUNIORS                LOCHFIELD  JUNIORS  25TH           LOCHWINNO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60520" y="2133720"/>
            <a:ext cx="1060200" cy="1023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16160" y="1989000"/>
            <a:ext cx="1170000" cy="1121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657600" y="1989000"/>
            <a:ext cx="1243080" cy="1121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5313240" y="1628640"/>
            <a:ext cx="1206720" cy="1508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6969240" y="2133720"/>
            <a:ext cx="1042920" cy="996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8337600" y="2133720"/>
            <a:ext cx="1023840" cy="1033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305240" y="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2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560520" y="3500280"/>
            <a:ext cx="1261800" cy="1206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2289240" y="3716280"/>
            <a:ext cx="1042920" cy="996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3800520" y="3573360"/>
            <a:ext cx="120636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5457960" y="3573360"/>
            <a:ext cx="987120" cy="1157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7040520" y="3789360"/>
            <a:ext cx="951120" cy="914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8265960" y="3357720"/>
            <a:ext cx="1225800" cy="1339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776160" y="5877000"/>
            <a:ext cx="586080" cy="622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2360520" y="5445000"/>
            <a:ext cx="951120" cy="1024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3873600" y="5445000"/>
            <a:ext cx="1060200" cy="1033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>
            <a:off x="5384880" y="5229360"/>
            <a:ext cx="1243080" cy="1230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7"/>
          <a:stretch/>
        </p:blipFill>
        <p:spPr>
          <a:xfrm>
            <a:off x="7184880" y="5661000"/>
            <a:ext cx="831960" cy="785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8"/>
          <a:stretch/>
        </p:blipFill>
        <p:spPr>
          <a:xfrm>
            <a:off x="8408880" y="5229360"/>
            <a:ext cx="1024200" cy="1193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8337600" y="620640"/>
            <a:ext cx="969840" cy="851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6897600" y="47628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1"/>
          <a:stretch/>
        </p:blipFill>
        <p:spPr>
          <a:xfrm>
            <a:off x="5313240" y="476280"/>
            <a:ext cx="1024200" cy="10238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2"/>
          <a:stretch/>
        </p:blipFill>
        <p:spPr>
          <a:xfrm>
            <a:off x="3800520" y="476280"/>
            <a:ext cx="1006560" cy="1009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3"/>
          <a:stretch/>
        </p:blipFill>
        <p:spPr>
          <a:xfrm>
            <a:off x="2289240" y="549360"/>
            <a:ext cx="987480" cy="923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4"/>
          <a:stretch/>
        </p:blipFill>
        <p:spPr>
          <a:xfrm>
            <a:off x="631800" y="404640"/>
            <a:ext cx="102384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4T20:45:34Z</dcterms:created>
  <dc:creator>JOHN YOUNG</dc:creator>
  <dc:description/>
  <dc:language>en-US</dc:language>
  <cp:lastModifiedBy>JY</cp:lastModifiedBy>
  <dcterms:modified xsi:type="dcterms:W3CDTF">2008-01-01T19:16:45Z</dcterms:modified>
  <cp:revision>40</cp:revision>
  <dc:subject/>
  <dc:title>No Slide Title</dc:title>
</cp:coreProperties>
</file>